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BD8298-B28F-43AC-9ECD-F9D4975B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ECAB34-2744-47E6-9794-11102D3E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863991-6AAE-42B9-A476-2BB99F5C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AD2077-0E7B-4696-A09C-8553732A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308462-984C-40CC-A737-20486090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945464-07C5-403A-9E9A-3286C780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C94767-932D-463F-B644-282489F7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DE4DA0-086E-4FC3-8C33-EF14CF9A6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1A6555-F2CF-4165-B07F-27038537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9DB451-3556-4AAE-8819-C5DA2F7B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ACA514-7105-42DF-A71F-71AB2324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7E0DB3-D283-44E1-9196-39A3DE6C3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328822-AF11-45CD-B194-BFB0A11D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7F0972-BAAA-42B3-8475-5D60F8EF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20895C88-38A1-4A2E-B586-288481329DE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orking with Media and Anima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udio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Video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 Animations and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nimation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"/>
          <p:cNvGrpSpPr/>
          <p:nvPr/>
        </p:nvGrpSpPr>
        <p:grpSpPr>
          <a:xfrm>
            <a:off x="2209680" y="2281320"/>
            <a:ext cx="4094280" cy="3294000"/>
            <a:chOff x="2209680" y="2281320"/>
            <a:chExt cx="4094280" cy="3294000"/>
          </a:xfrm>
        </p:grpSpPr>
        <p:pic>
          <p:nvPicPr>
            <p:cNvPr id="117" name="Picture 1" descr=""/>
            <p:cNvPicPr/>
            <p:nvPr/>
          </p:nvPicPr>
          <p:blipFill>
            <a:blip r:embed="rId1"/>
            <a:stretch/>
          </p:blipFill>
          <p:spPr>
            <a:xfrm>
              <a:off x="4476240" y="2281320"/>
              <a:ext cx="1827720" cy="32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303"/>
            <p:cNvSpPr/>
            <p:nvPr/>
          </p:nvSpPr>
          <p:spPr>
            <a:xfrm flipH="1">
              <a:off x="4167720" y="3429000"/>
              <a:ext cx="174600" cy="1218600"/>
            </a:xfrm>
            <a:custGeom>
              <a:avLst/>
              <a:gdLst>
                <a:gd name="textAreaLeft" fmla="*/ 0 w 174600"/>
                <a:gd name="textAreaRight" fmla="*/ 63000 w 174600"/>
                <a:gd name="textAreaTop" fmla="*/ 36000 h 1218600"/>
                <a:gd name="textAreaBottom" fmla="*/ 118260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20"/>
                    <a:pt x="10800" y="2039"/>
                  </a:cubicBezTo>
                  <a:lnTo>
                    <a:pt x="10800" y="8761"/>
                  </a:lnTo>
                  <a:cubicBezTo>
                    <a:pt x="10800" y="9781"/>
                    <a:pt x="16200" y="10800"/>
                    <a:pt x="21600" y="10800"/>
                  </a:cubicBezTo>
                  <a:cubicBezTo>
                    <a:pt x="16200" y="10800"/>
                    <a:pt x="10800" y="11820"/>
                    <a:pt x="10800" y="12839"/>
                  </a:cubicBezTo>
                  <a:lnTo>
                    <a:pt x="10800" y="19561"/>
                  </a:lnTo>
                  <a:cubicBezTo>
                    <a:pt x="10800" y="2058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4"/>
            <p:cNvSpPr/>
            <p:nvPr/>
          </p:nvSpPr>
          <p:spPr>
            <a:xfrm>
              <a:off x="3605040" y="403740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5"/>
            <p:cNvSpPr/>
            <p:nvPr/>
          </p:nvSpPr>
          <p:spPr>
            <a:xfrm>
              <a:off x="2374560" y="390060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imations Li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3669840" y="5409720"/>
              <a:ext cx="9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unded Rectangle 7"/>
            <p:cNvSpPr/>
            <p:nvPr/>
          </p:nvSpPr>
          <p:spPr>
            <a:xfrm>
              <a:off x="2315880" y="5118120"/>
              <a:ext cx="14763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conds Drop-Down Men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03"/>
            <p:cNvSpPr/>
            <p:nvPr/>
          </p:nvSpPr>
          <p:spPr>
            <a:xfrm flipH="1" rot="5400000">
              <a:off x="5698080" y="4853520"/>
              <a:ext cx="186480" cy="609840"/>
            </a:xfrm>
            <a:custGeom>
              <a:avLst/>
              <a:gdLst>
                <a:gd name="textAreaLeft" fmla="*/ 360 w 186480"/>
                <a:gd name="textAreaRight" fmla="*/ 67680 w 186480"/>
                <a:gd name="textAreaTop" fmla="*/ 38160 h 609840"/>
                <a:gd name="textAreaBottom" fmla="*/ 5716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77"/>
                    <a:pt x="10800" y="4354"/>
                  </a:cubicBezTo>
                  <a:lnTo>
                    <a:pt x="10800" y="6446"/>
                  </a:lnTo>
                  <a:cubicBezTo>
                    <a:pt x="10800" y="8623"/>
                    <a:pt x="16200" y="10800"/>
                    <a:pt x="21600" y="10800"/>
                  </a:cubicBezTo>
                  <a:cubicBezTo>
                    <a:pt x="16200" y="10800"/>
                    <a:pt x="10800" y="12977"/>
                    <a:pt x="10800" y="15154"/>
                  </a:cubicBezTo>
                  <a:lnTo>
                    <a:pt x="10800" y="17246"/>
                  </a:lnTo>
                  <a:cubicBezTo>
                    <a:pt x="10800" y="1942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25"/>
            <p:cNvGrpSpPr/>
            <p:nvPr/>
          </p:nvGrpSpPr>
          <p:grpSpPr>
            <a:xfrm>
              <a:off x="3793680" y="4816800"/>
              <a:ext cx="2002320" cy="216000"/>
              <a:chOff x="3793680" y="4816800"/>
              <a:chExt cx="2002320" cy="216000"/>
            </a:xfrm>
          </p:grpSpPr>
          <p:sp>
            <p:nvSpPr>
              <p:cNvPr id="125" name="Line 326"/>
              <p:cNvSpPr/>
              <p:nvPr/>
            </p:nvSpPr>
            <p:spPr>
              <a:xfrm flipV="1">
                <a:off x="3793680" y="4816800"/>
                <a:ext cx="2002320" cy="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27"/>
              <p:cNvSpPr/>
              <p:nvPr/>
            </p:nvSpPr>
            <p:spPr>
              <a:xfrm flipV="1">
                <a:off x="5796000" y="4820040"/>
                <a:ext cx="0" cy="21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ounded Rectangle 9"/>
            <p:cNvSpPr/>
            <p:nvPr/>
          </p:nvSpPr>
          <p:spPr>
            <a:xfrm>
              <a:off x="2238120" y="4680000"/>
              <a:ext cx="158292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vanced Tim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25"/>
            <p:cNvGrpSpPr/>
            <p:nvPr/>
          </p:nvGrpSpPr>
          <p:grpSpPr>
            <a:xfrm>
              <a:off x="3650040" y="2976840"/>
              <a:ext cx="2311920" cy="383760"/>
              <a:chOff x="3650040" y="2976840"/>
              <a:chExt cx="2311920" cy="383760"/>
            </a:xfrm>
          </p:grpSpPr>
          <p:sp>
            <p:nvSpPr>
              <p:cNvPr id="129" name="Line 326"/>
              <p:cNvSpPr/>
              <p:nvPr/>
            </p:nvSpPr>
            <p:spPr>
              <a:xfrm flipV="1">
                <a:off x="3650040" y="2976840"/>
                <a:ext cx="2311920" cy="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27"/>
              <p:cNvSpPr/>
              <p:nvPr/>
            </p:nvSpPr>
            <p:spPr>
              <a:xfrm flipV="1">
                <a:off x="5954400" y="2985120"/>
                <a:ext cx="0" cy="37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ounded Rectangle 17"/>
            <p:cNvSpPr/>
            <p:nvPr/>
          </p:nvSpPr>
          <p:spPr>
            <a:xfrm>
              <a:off x="2209680" y="2859120"/>
              <a:ext cx="1582920" cy="23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imation Dur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ounded Rectangle 18"/>
          <p:cNvSpPr/>
          <p:nvPr/>
        </p:nvSpPr>
        <p:spPr>
          <a:xfrm>
            <a:off x="6629400" y="2622600"/>
            <a:ext cx="1582560" cy="23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order  Butt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4"/>
          <p:cNvSpPr/>
          <p:nvPr/>
        </p:nvSpPr>
        <p:spPr>
          <a:xfrm flipH="1">
            <a:off x="6248520" y="27417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20"/>
          <p:cNvSpPr/>
          <p:nvPr/>
        </p:nvSpPr>
        <p:spPr>
          <a:xfrm>
            <a:off x="2209680" y="2209680"/>
            <a:ext cx="158292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y All/Play From Butt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4"/>
          <p:cNvSpPr/>
          <p:nvPr/>
        </p:nvSpPr>
        <p:spPr>
          <a:xfrm>
            <a:off x="3792600" y="2416320"/>
            <a:ext cx="771480" cy="32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22"/>
          <p:cNvSpPr/>
          <p:nvPr/>
        </p:nvSpPr>
        <p:spPr>
          <a:xfrm>
            <a:off x="6629400" y="3174840"/>
            <a:ext cx="15825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e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tion Options Drop-Down Men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4"/>
          <p:cNvSpPr/>
          <p:nvPr/>
        </p:nvSpPr>
        <p:spPr>
          <a:xfrm flipH="1">
            <a:off x="6172200" y="34164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Effect Options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2470320" y="2035080"/>
            <a:ext cx="41846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im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77960" y="2219400"/>
            <a:ext cx="3969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es including multimedia content in presentations benefit the audience? The presen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potential pitfalls to consider when timing animations and transi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udio/Video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1905120" y="2811600"/>
            <a:ext cx="4981320" cy="2065320"/>
            <a:chOff x="1905120" y="2811600"/>
            <a:chExt cx="4981320" cy="2065320"/>
          </a:xfrm>
        </p:grpSpPr>
        <p:pic>
          <p:nvPicPr>
            <p:cNvPr id="53" name="Picture 1" descr=""/>
            <p:cNvPicPr/>
            <p:nvPr/>
          </p:nvPicPr>
          <p:blipFill>
            <a:blip r:embed="rId1"/>
            <a:stretch/>
          </p:blipFill>
          <p:spPr>
            <a:xfrm>
              <a:off x="2857320" y="2811600"/>
              <a:ext cx="392436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167"/>
            <p:cNvSpPr/>
            <p:nvPr/>
          </p:nvSpPr>
          <p:spPr>
            <a:xfrm>
              <a:off x="5131440" y="4338000"/>
              <a:ext cx="12600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ounded Rectangle 8"/>
            <p:cNvSpPr/>
            <p:nvPr/>
          </p:nvSpPr>
          <p:spPr>
            <a:xfrm>
              <a:off x="5132520" y="4489560"/>
              <a:ext cx="1476360" cy="387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ve Back/Move Forward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7"/>
            <p:cNvSpPr/>
            <p:nvPr/>
          </p:nvSpPr>
          <p:spPr>
            <a:xfrm flipV="1">
              <a:off x="6477120" y="3403080"/>
              <a:ext cx="0" cy="47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ounded Rectangle 10"/>
            <p:cNvSpPr/>
            <p:nvPr/>
          </p:nvSpPr>
          <p:spPr>
            <a:xfrm>
              <a:off x="5410080" y="3193920"/>
              <a:ext cx="1476360" cy="39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olume/Mute 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7"/>
            <p:cNvSpPr/>
            <p:nvPr/>
          </p:nvSpPr>
          <p:spPr>
            <a:xfrm>
              <a:off x="3936240" y="4261680"/>
              <a:ext cx="0" cy="49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12"/>
            <p:cNvSpPr/>
            <p:nvPr/>
          </p:nvSpPr>
          <p:spPr>
            <a:xfrm>
              <a:off x="3502080" y="460224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rub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7"/>
            <p:cNvSpPr/>
            <p:nvPr/>
          </p:nvSpPr>
          <p:spPr>
            <a:xfrm>
              <a:off x="3124080" y="4337280"/>
              <a:ext cx="0" cy="39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14"/>
            <p:cNvSpPr/>
            <p:nvPr/>
          </p:nvSpPr>
          <p:spPr>
            <a:xfrm>
              <a:off x="1905120" y="460224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y But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03"/>
            <p:cNvSpPr/>
            <p:nvPr/>
          </p:nvSpPr>
          <p:spPr>
            <a:xfrm flipH="1" rot="16200000">
              <a:off x="5020560" y="3933000"/>
              <a:ext cx="157680" cy="533160"/>
            </a:xfrm>
            <a:custGeom>
              <a:avLst/>
              <a:gdLst>
                <a:gd name="textAreaLeft" fmla="*/ 0 w 157680"/>
                <a:gd name="textAreaRight" fmla="*/ 56880 w 157680"/>
                <a:gd name="textAreaTop" fmla="*/ 32400 h 533160"/>
                <a:gd name="textAreaBottom" fmla="*/ 5007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06"/>
                    <a:pt x="10800" y="4212"/>
                  </a:cubicBezTo>
                  <a:lnTo>
                    <a:pt x="10800" y="6588"/>
                  </a:lnTo>
                  <a:cubicBezTo>
                    <a:pt x="10800" y="8694"/>
                    <a:pt x="16200" y="10800"/>
                    <a:pt x="21600" y="10800"/>
                  </a:cubicBezTo>
                  <a:cubicBezTo>
                    <a:pt x="16200" y="10800"/>
                    <a:pt x="10800" y="12906"/>
                    <a:pt x="10800" y="15012"/>
                  </a:cubicBezTo>
                  <a:lnTo>
                    <a:pt x="10800" y="17388"/>
                  </a:lnTo>
                  <a:cubicBezTo>
                    <a:pt x="10800" y="1949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ook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"/>
          <p:cNvGrpSpPr/>
          <p:nvPr/>
        </p:nvGrpSpPr>
        <p:grpSpPr>
          <a:xfrm>
            <a:off x="3124080" y="3027240"/>
            <a:ext cx="2828880" cy="1773360"/>
            <a:chOff x="3124080" y="3027240"/>
            <a:chExt cx="2828880" cy="1773360"/>
          </a:xfrm>
        </p:grpSpPr>
        <p:pic>
          <p:nvPicPr>
            <p:cNvPr id="65" name="Picture 3" descr=""/>
            <p:cNvPicPr/>
            <p:nvPr/>
          </p:nvPicPr>
          <p:blipFill>
            <a:blip r:embed="rId1"/>
            <a:stretch/>
          </p:blipFill>
          <p:spPr>
            <a:xfrm>
              <a:off x="3124080" y="3027240"/>
              <a:ext cx="282888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167"/>
            <p:cNvSpPr/>
            <p:nvPr/>
          </p:nvSpPr>
          <p:spPr>
            <a:xfrm>
              <a:off x="4051440" y="4157280"/>
              <a:ext cx="0" cy="3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unded Rectangle 5"/>
            <p:cNvSpPr/>
            <p:nvPr/>
          </p:nvSpPr>
          <p:spPr>
            <a:xfrm>
              <a:off x="3578040" y="4381560"/>
              <a:ext cx="1828800" cy="41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okma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AUDIO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23840" y="3070080"/>
            <a:ext cx="874404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LAYBACK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96840" y="3048120"/>
            <a:ext cx="8758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rim Audio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"/>
          <p:cNvGrpSpPr/>
          <p:nvPr/>
        </p:nvGrpSpPr>
        <p:grpSpPr>
          <a:xfrm>
            <a:off x="1706400" y="1892160"/>
            <a:ext cx="5685120" cy="3981600"/>
            <a:chOff x="1706400" y="1892160"/>
            <a:chExt cx="5685120" cy="3981600"/>
          </a:xfrm>
        </p:grpSpPr>
        <p:pic>
          <p:nvPicPr>
            <p:cNvPr id="74" name="Picture 1" descr=""/>
            <p:cNvPicPr/>
            <p:nvPr/>
          </p:nvPicPr>
          <p:blipFill>
            <a:blip r:embed="rId1"/>
            <a:stretch/>
          </p:blipFill>
          <p:spPr>
            <a:xfrm>
              <a:off x="2558880" y="2996280"/>
              <a:ext cx="421668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ounded Rectangle 4"/>
            <p:cNvSpPr/>
            <p:nvPr/>
          </p:nvSpPr>
          <p:spPr>
            <a:xfrm>
              <a:off x="1706400" y="2366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 Poi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ounded Rectangle 6"/>
            <p:cNvSpPr/>
            <p:nvPr/>
          </p:nvSpPr>
          <p:spPr>
            <a:xfrm>
              <a:off x="5915160" y="23666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8"/>
            <p:cNvSpPr/>
            <p:nvPr/>
          </p:nvSpPr>
          <p:spPr>
            <a:xfrm>
              <a:off x="1706400" y="4921200"/>
              <a:ext cx="1476360" cy="48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 Time Spin Bo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12"/>
            <p:cNvSpPr/>
            <p:nvPr/>
          </p:nvSpPr>
          <p:spPr>
            <a:xfrm>
              <a:off x="5915160" y="4992840"/>
              <a:ext cx="1476360" cy="41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d Time Spin Bo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9"/>
            <p:cNvSpPr/>
            <p:nvPr/>
          </p:nvSpPr>
          <p:spPr>
            <a:xfrm>
              <a:off x="4672080" y="4343400"/>
              <a:ext cx="0" cy="9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14"/>
            <p:cNvSpPr/>
            <p:nvPr/>
          </p:nvSpPr>
          <p:spPr>
            <a:xfrm>
              <a:off x="2363400" y="559944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vious Fra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16"/>
            <p:cNvSpPr/>
            <p:nvPr/>
          </p:nvSpPr>
          <p:spPr>
            <a:xfrm>
              <a:off x="3962160" y="5127840"/>
              <a:ext cx="1219320" cy="279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331"/>
            <p:cNvGrpSpPr/>
            <p:nvPr/>
          </p:nvGrpSpPr>
          <p:grpSpPr>
            <a:xfrm>
              <a:off x="4170600" y="2627640"/>
              <a:ext cx="708480" cy="953280"/>
              <a:chOff x="4170600" y="2627640"/>
              <a:chExt cx="708480" cy="953280"/>
            </a:xfrm>
          </p:grpSpPr>
          <p:sp>
            <p:nvSpPr>
              <p:cNvPr id="83" name="Line 332"/>
              <p:cNvSpPr/>
              <p:nvPr/>
            </p:nvSpPr>
            <p:spPr>
              <a:xfrm>
                <a:off x="4186800" y="2627640"/>
                <a:ext cx="0" cy="9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33"/>
              <p:cNvSpPr/>
              <p:nvPr/>
            </p:nvSpPr>
            <p:spPr>
              <a:xfrm flipH="1">
                <a:off x="4170600" y="3580920"/>
                <a:ext cx="708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ounded Rectangle 18"/>
            <p:cNvSpPr/>
            <p:nvPr/>
          </p:nvSpPr>
          <p:spPr>
            <a:xfrm>
              <a:off x="5170680" y="5594400"/>
              <a:ext cx="147636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xt Fra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ounded Rectangle 20"/>
            <p:cNvSpPr/>
            <p:nvPr/>
          </p:nvSpPr>
          <p:spPr>
            <a:xfrm>
              <a:off x="3639960" y="2366640"/>
              <a:ext cx="1693800" cy="376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rrent Playback Tim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39"/>
            <p:cNvSpPr/>
            <p:nvPr/>
          </p:nvSpPr>
          <p:spPr>
            <a:xfrm flipV="1">
              <a:off x="3429000" y="2030040"/>
              <a:ext cx="0" cy="155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ounded Rectangle 22"/>
            <p:cNvSpPr/>
            <p:nvPr/>
          </p:nvSpPr>
          <p:spPr>
            <a:xfrm>
              <a:off x="2653920" y="1892160"/>
              <a:ext cx="170172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dio Clip Timel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31"/>
            <p:cNvGrpSpPr/>
            <p:nvPr/>
          </p:nvGrpSpPr>
          <p:grpSpPr>
            <a:xfrm>
              <a:off x="2209320" y="2642040"/>
              <a:ext cx="456840" cy="1091520"/>
              <a:chOff x="2209320" y="2642040"/>
              <a:chExt cx="456840" cy="1091520"/>
            </a:xfrm>
          </p:grpSpPr>
          <p:sp>
            <p:nvSpPr>
              <p:cNvPr id="90" name="Line 332"/>
              <p:cNvSpPr/>
              <p:nvPr/>
            </p:nvSpPr>
            <p:spPr>
              <a:xfrm>
                <a:off x="2220120" y="2642040"/>
                <a:ext cx="0" cy="109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333"/>
              <p:cNvSpPr/>
              <p:nvPr/>
            </p:nvSpPr>
            <p:spPr>
              <a:xfrm flipH="1">
                <a:off x="2209320" y="3733560"/>
                <a:ext cx="456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334"/>
            <p:cNvGrpSpPr/>
            <p:nvPr/>
          </p:nvGrpSpPr>
          <p:grpSpPr>
            <a:xfrm>
              <a:off x="6653520" y="2642040"/>
              <a:ext cx="432720" cy="1093680"/>
              <a:chOff x="6653520" y="2642040"/>
              <a:chExt cx="432720" cy="1093680"/>
            </a:xfrm>
          </p:grpSpPr>
          <p:sp>
            <p:nvSpPr>
              <p:cNvPr id="93" name="Line 335"/>
              <p:cNvSpPr/>
              <p:nvPr/>
            </p:nvSpPr>
            <p:spPr>
              <a:xfrm>
                <a:off x="7076520" y="2642040"/>
                <a:ext cx="0" cy="109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36"/>
              <p:cNvSpPr/>
              <p:nvPr/>
            </p:nvSpPr>
            <p:spPr>
              <a:xfrm>
                <a:off x="6653520" y="3735720"/>
                <a:ext cx="43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34"/>
            <p:cNvGrpSpPr/>
            <p:nvPr/>
          </p:nvGrpSpPr>
          <p:grpSpPr>
            <a:xfrm>
              <a:off x="2211120" y="4033080"/>
              <a:ext cx="531360" cy="885600"/>
              <a:chOff x="2211120" y="4033080"/>
              <a:chExt cx="531360" cy="885600"/>
            </a:xfrm>
          </p:grpSpPr>
          <p:sp>
            <p:nvSpPr>
              <p:cNvPr id="96" name="Line 335"/>
              <p:cNvSpPr/>
              <p:nvPr/>
            </p:nvSpPr>
            <p:spPr>
              <a:xfrm flipV="1">
                <a:off x="2223000" y="4033080"/>
                <a:ext cx="0" cy="88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36"/>
              <p:cNvSpPr/>
              <p:nvPr/>
            </p:nvSpPr>
            <p:spPr>
              <a:xfrm flipH="1">
                <a:off x="2211120" y="4033080"/>
                <a:ext cx="531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31"/>
            <p:cNvGrpSpPr/>
            <p:nvPr/>
          </p:nvGrpSpPr>
          <p:grpSpPr>
            <a:xfrm>
              <a:off x="6630480" y="4035240"/>
              <a:ext cx="448920" cy="1029600"/>
              <a:chOff x="6630480" y="4035240"/>
              <a:chExt cx="448920" cy="1029600"/>
            </a:xfrm>
          </p:grpSpPr>
          <p:sp>
            <p:nvSpPr>
              <p:cNvPr id="99" name="Line 332"/>
              <p:cNvSpPr/>
              <p:nvPr/>
            </p:nvSpPr>
            <p:spPr>
              <a:xfrm flipV="1">
                <a:off x="7068960" y="4035240"/>
                <a:ext cx="0" cy="102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3"/>
              <p:cNvSpPr/>
              <p:nvPr/>
            </p:nvSpPr>
            <p:spPr>
              <a:xfrm>
                <a:off x="6630480" y="4035240"/>
                <a:ext cx="44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34"/>
            <p:cNvGrpSpPr/>
            <p:nvPr/>
          </p:nvGrpSpPr>
          <p:grpSpPr>
            <a:xfrm>
              <a:off x="3659040" y="4114440"/>
              <a:ext cx="455040" cy="1478520"/>
              <a:chOff x="3659040" y="4114440"/>
              <a:chExt cx="455040" cy="1478520"/>
            </a:xfrm>
          </p:grpSpPr>
          <p:sp>
            <p:nvSpPr>
              <p:cNvPr id="102" name="Line 335"/>
              <p:cNvSpPr/>
              <p:nvPr/>
            </p:nvSpPr>
            <p:spPr>
              <a:xfrm flipV="1">
                <a:off x="3669480" y="4114440"/>
                <a:ext cx="0" cy="147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36"/>
              <p:cNvSpPr/>
              <p:nvPr/>
            </p:nvSpPr>
            <p:spPr>
              <a:xfrm flipH="1">
                <a:off x="3659040" y="4114800"/>
                <a:ext cx="45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31"/>
            <p:cNvGrpSpPr/>
            <p:nvPr/>
          </p:nvGrpSpPr>
          <p:grpSpPr>
            <a:xfrm>
              <a:off x="5257800" y="4114440"/>
              <a:ext cx="380880" cy="1526040"/>
              <a:chOff x="5257800" y="4114440"/>
              <a:chExt cx="380880" cy="1526040"/>
            </a:xfrm>
          </p:grpSpPr>
          <p:sp>
            <p:nvSpPr>
              <p:cNvPr id="105" name="Line 332"/>
              <p:cNvSpPr/>
              <p:nvPr/>
            </p:nvSpPr>
            <p:spPr>
              <a:xfrm flipV="1">
                <a:off x="5630040" y="4114440"/>
                <a:ext cx="0" cy="152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333"/>
              <p:cNvSpPr/>
              <p:nvPr/>
            </p:nvSpPr>
            <p:spPr>
              <a:xfrm>
                <a:off x="5257800" y="411480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VIDEO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52280" y="2790720"/>
            <a:ext cx="8869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oster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17760" y="254016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mbed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5"/>
          <p:cNvGrpSpPr/>
          <p:nvPr/>
        </p:nvGrpSpPr>
        <p:grpSpPr>
          <a:xfrm>
            <a:off x="2266920" y="3200400"/>
            <a:ext cx="4610160" cy="1227240"/>
            <a:chOff x="2266920" y="3200400"/>
            <a:chExt cx="4610160" cy="1227240"/>
          </a:xfrm>
        </p:grpSpPr>
        <p:pic>
          <p:nvPicPr>
            <p:cNvPr id="113" name="Picture 2" descr=""/>
            <p:cNvPicPr/>
            <p:nvPr/>
          </p:nvPicPr>
          <p:blipFill>
            <a:blip r:embed="rId1"/>
            <a:stretch/>
          </p:blipFill>
          <p:spPr>
            <a:xfrm>
              <a:off x="2266920" y="3200400"/>
              <a:ext cx="4610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ounded Rectangle 4"/>
            <p:cNvSpPr/>
            <p:nvPr/>
          </p:nvSpPr>
          <p:spPr>
            <a:xfrm>
              <a:off x="3047760" y="4152960"/>
              <a:ext cx="304812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n Embed Code from YouTub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52:50Z</dcterms:modified>
  <cp:revision>121</cp:revision>
  <dc:subject>Courseware Resource Supplement</dc:subject>
  <dc:title>OV-ILT Template –  Content Developer Section</dc:title>
</cp:coreProperties>
</file>