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C6A1E6-188E-4E1C-A5E4-C292B5A1D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66AA19-DE9D-4D15-AE10-98C0209B7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149399-DC57-485C-AAFA-0BB3532FC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5B58B8-3EA2-4CB7-BFF9-A6EA8669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04F963-A662-4E9E-8DD4-18212141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BAEE75-AD8F-4E56-8D74-61B573DD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8F7F38-9B36-4935-902D-14643655B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D3B022E-9368-4DC8-8605-3E66DC83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50AE601F-CEB5-4AFC-B11A-FCFFDF9C6D76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8533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dding SmartArt to a Presentation </a:t>
            </a:r>
            <a:br>
              <a:rPr sz="2400"/>
            </a:b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Smar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Smar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martArt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371680" y="2263680"/>
            <a:ext cx="4334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201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Choose a SmartArt Graphic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55600" y="2095560"/>
            <a:ext cx="6774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Tex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"/>
          <p:cNvGrpSpPr/>
          <p:nvPr/>
        </p:nvGrpSpPr>
        <p:grpSpPr>
          <a:xfrm>
            <a:off x="1533600" y="2484360"/>
            <a:ext cx="6086520" cy="2773440"/>
            <a:chOff x="1533600" y="2484360"/>
            <a:chExt cx="6086520" cy="2773440"/>
          </a:xfrm>
        </p:grpSpPr>
        <p:pic>
          <p:nvPicPr>
            <p:cNvPr id="57" name="Picture 1" descr=""/>
            <p:cNvPicPr/>
            <p:nvPr/>
          </p:nvPicPr>
          <p:blipFill>
            <a:blip r:embed="rId1"/>
            <a:stretch/>
          </p:blipFill>
          <p:spPr>
            <a:xfrm>
              <a:off x="1533600" y="2484360"/>
              <a:ext cx="6086520" cy="22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Line 167"/>
            <p:cNvSpPr/>
            <p:nvPr/>
          </p:nvSpPr>
          <p:spPr>
            <a:xfrm>
              <a:off x="2719440" y="4267080"/>
              <a:ext cx="0" cy="82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ounded Rectangle 6"/>
            <p:cNvSpPr/>
            <p:nvPr/>
          </p:nvSpPr>
          <p:spPr>
            <a:xfrm>
              <a:off x="1600200" y="497052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ext Pa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67"/>
            <p:cNvSpPr/>
            <p:nvPr/>
          </p:nvSpPr>
          <p:spPr>
            <a:xfrm>
              <a:off x="3552840" y="3733200"/>
              <a:ext cx="0" cy="135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ounded Rectangle 8"/>
            <p:cNvSpPr/>
            <p:nvPr/>
          </p:nvSpPr>
          <p:spPr>
            <a:xfrm>
              <a:off x="3276720" y="498312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MARTART TOOLS Contextu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47600" y="2932200"/>
            <a:ext cx="87613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election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2679840" y="2765520"/>
            <a:ext cx="3644640" cy="2111400"/>
            <a:chOff x="2679840" y="2765520"/>
            <a:chExt cx="3644640" cy="2111400"/>
          </a:xfrm>
        </p:grpSpPr>
        <p:pic>
          <p:nvPicPr>
            <p:cNvPr id="66" name="Picture 2" descr=""/>
            <p:cNvPicPr/>
            <p:nvPr/>
          </p:nvPicPr>
          <p:blipFill>
            <a:blip r:embed="rId1"/>
            <a:stretch/>
          </p:blipFill>
          <p:spPr>
            <a:xfrm>
              <a:off x="4448160" y="2765520"/>
              <a:ext cx="1876320" cy="2111400"/>
            </a:xfrm>
            <a:prstGeom prst="rect">
              <a:avLst/>
            </a:prstGeom>
            <a:ln w="9360">
              <a:solidFill>
                <a:srgbClr val="cccccc"/>
              </a:solidFill>
              <a:miter/>
            </a:ln>
          </p:spPr>
        </p:pic>
        <p:sp>
          <p:nvSpPr>
            <p:cNvPr id="67" name="AutoShape 303"/>
            <p:cNvSpPr/>
            <p:nvPr/>
          </p:nvSpPr>
          <p:spPr>
            <a:xfrm flipH="1">
              <a:off x="4547520" y="3809880"/>
              <a:ext cx="174600" cy="784800"/>
            </a:xfrm>
            <a:custGeom>
              <a:avLst/>
              <a:gdLst>
                <a:gd name="textAreaLeft" fmla="*/ 0 w 174600"/>
                <a:gd name="textAreaRight" fmla="*/ 63000 w 174600"/>
                <a:gd name="textAreaTop" fmla="*/ 36000 h 784800"/>
                <a:gd name="textAreaBottom" fmla="*/ 748800 h 78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84"/>
                    <a:pt x="10800" y="3168"/>
                  </a:cubicBezTo>
                  <a:lnTo>
                    <a:pt x="10800" y="7632"/>
                  </a:lnTo>
                  <a:cubicBezTo>
                    <a:pt x="10800" y="9216"/>
                    <a:pt x="16200" y="10800"/>
                    <a:pt x="21600" y="10800"/>
                  </a:cubicBezTo>
                  <a:cubicBezTo>
                    <a:pt x="16200" y="10800"/>
                    <a:pt x="10800" y="12384"/>
                    <a:pt x="10800" y="13968"/>
                  </a:cubicBezTo>
                  <a:lnTo>
                    <a:pt x="10800" y="18432"/>
                  </a:lnTo>
                  <a:cubicBezTo>
                    <a:pt x="10800" y="20016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44"/>
            <p:cNvSpPr/>
            <p:nvPr/>
          </p:nvSpPr>
          <p:spPr>
            <a:xfrm>
              <a:off x="4014720" y="4162680"/>
              <a:ext cx="49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5"/>
            <p:cNvSpPr/>
            <p:nvPr/>
          </p:nvSpPr>
          <p:spPr>
            <a:xfrm>
              <a:off x="2679840" y="401508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n-Screen Objec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31"/>
            <p:cNvGrpSpPr/>
            <p:nvPr/>
          </p:nvGrpSpPr>
          <p:grpSpPr>
            <a:xfrm>
              <a:off x="4141800" y="4594320"/>
              <a:ext cx="1954080" cy="204120"/>
              <a:chOff x="4141800" y="4594320"/>
              <a:chExt cx="1954080" cy="204120"/>
            </a:xfrm>
          </p:grpSpPr>
          <p:sp>
            <p:nvSpPr>
              <p:cNvPr id="71" name="Line 332"/>
              <p:cNvSpPr/>
              <p:nvPr/>
            </p:nvSpPr>
            <p:spPr>
              <a:xfrm>
                <a:off x="4141800" y="4793400"/>
                <a:ext cx="1954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33"/>
              <p:cNvSpPr/>
              <p:nvPr/>
            </p:nvSpPr>
            <p:spPr>
              <a:xfrm>
                <a:off x="6095880" y="4594320"/>
                <a:ext cx="0" cy="20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ounded Rectangle 7"/>
            <p:cNvSpPr/>
            <p:nvPr/>
          </p:nvSpPr>
          <p:spPr>
            <a:xfrm>
              <a:off x="2679840" y="4594320"/>
              <a:ext cx="1584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how/Hide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31"/>
            <p:cNvGrpSpPr/>
            <p:nvPr/>
          </p:nvGrpSpPr>
          <p:grpSpPr>
            <a:xfrm>
              <a:off x="4039920" y="3581280"/>
              <a:ext cx="1973160" cy="149040"/>
              <a:chOff x="4039920" y="3581280"/>
              <a:chExt cx="1973160" cy="149040"/>
            </a:xfrm>
          </p:grpSpPr>
          <p:sp>
            <p:nvSpPr>
              <p:cNvPr id="75" name="Line 332"/>
              <p:cNvSpPr/>
              <p:nvPr/>
            </p:nvSpPr>
            <p:spPr>
              <a:xfrm>
                <a:off x="4039920" y="3727080"/>
                <a:ext cx="197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33"/>
              <p:cNvSpPr/>
              <p:nvPr/>
            </p:nvSpPr>
            <p:spPr>
              <a:xfrm>
                <a:off x="6005880" y="3581280"/>
                <a:ext cx="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Rounded Rectangle 11"/>
            <p:cNvSpPr/>
            <p:nvPr/>
          </p:nvSpPr>
          <p:spPr>
            <a:xfrm>
              <a:off x="2787480" y="3597480"/>
              <a:ext cx="1476360" cy="27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eorder Butt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mpact will the ability to use SmartArt graphics have on your presentation desig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organizational benefits are there to having this level of functionality available in PowerPoi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07:38Z</dcterms:modified>
  <cp:revision>100</cp:revision>
  <dc:subject>Courseware Resource Supplement</dc:subject>
  <dc:title>OV-ILT Template –  Content Developer Section</dc:title>
</cp:coreProperties>
</file>