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8D582A-6841-411C-9CDE-CACCBBFA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39E0E2-3BA5-40CA-9F0E-3C7261815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BB8A0B-7D25-4990-B563-2DD892CB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02B31B9-DFA7-4C9A-A846-CB8AC39F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D70E96-C31F-4F0B-A34D-054CEE01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AFBC538-7174-4144-BCA1-89D5F922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C9AF2FB-335F-427C-9A5D-399084631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2DD0579-F980-49BC-BC9E-03A34AF5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15A09CD-4D09-45A3-80FC-29976B65B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263D622-55F0-401E-A151-87ACDB9A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EE0115B-337F-44DF-972F-38D2DF7F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34F333E-1534-4F22-ABF9-FDFD0C1F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4126700-4A1C-491F-823F-459BCD5D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8006F7-AA97-4712-99AA-B115FFBC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6 - </a:t>
            </a:r>
            <a:fld id="{BF0C8291-C835-45C6-A840-729B8CD3201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Up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Custom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Hyperlinks and Action But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izing a Slide Show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ction Setting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744640" y="1876320"/>
            <a:ext cx="35053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cord Slide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952720" y="3181320"/>
            <a:ext cx="32194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cording Shortcut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1371600" y="2529000"/>
            <a:ext cx="6356520" cy="2320920"/>
            <a:chOff x="1371600" y="2529000"/>
            <a:chExt cx="6356520" cy="232092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3047760" y="3243960"/>
              <a:ext cx="23806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167"/>
            <p:cNvSpPr/>
            <p:nvPr/>
          </p:nvSpPr>
          <p:spPr>
            <a:xfrm>
              <a:off x="3216600" y="3922920"/>
              <a:ext cx="0" cy="69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5"/>
            <p:cNvSpPr/>
            <p:nvPr/>
          </p:nvSpPr>
          <p:spPr>
            <a:xfrm>
              <a:off x="1371600" y="446652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7"/>
            <p:cNvSpPr/>
            <p:nvPr/>
          </p:nvSpPr>
          <p:spPr>
            <a:xfrm>
              <a:off x="3517560" y="3922920"/>
              <a:ext cx="0" cy="69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ounded Rectangle 6"/>
            <p:cNvSpPr/>
            <p:nvPr/>
          </p:nvSpPr>
          <p:spPr>
            <a:xfrm>
              <a:off x="3405600" y="4271400"/>
              <a:ext cx="1941840" cy="57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use Record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8"/>
            <p:cNvSpPr/>
            <p:nvPr/>
          </p:nvSpPr>
          <p:spPr>
            <a:xfrm>
              <a:off x="5623200" y="3921120"/>
              <a:ext cx="210492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tal Elapsed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28"/>
            <p:cNvGrpSpPr/>
            <p:nvPr/>
          </p:nvGrpSpPr>
          <p:grpSpPr>
            <a:xfrm>
              <a:off x="5429520" y="3686040"/>
              <a:ext cx="757800" cy="284760"/>
              <a:chOff x="5429520" y="3686040"/>
              <a:chExt cx="757800" cy="284760"/>
            </a:xfrm>
          </p:grpSpPr>
          <p:sp>
            <p:nvSpPr>
              <p:cNvPr id="136" name="Line 329"/>
              <p:cNvSpPr/>
              <p:nvPr/>
            </p:nvSpPr>
            <p:spPr>
              <a:xfrm flipV="1">
                <a:off x="6169680" y="3686040"/>
                <a:ext cx="0" cy="28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0"/>
              <p:cNvSpPr/>
              <p:nvPr/>
            </p:nvSpPr>
            <p:spPr>
              <a:xfrm>
                <a:off x="5429520" y="3686400"/>
                <a:ext cx="757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167"/>
            <p:cNvSpPr/>
            <p:nvPr/>
          </p:nvSpPr>
          <p:spPr>
            <a:xfrm flipV="1">
              <a:off x="4119120" y="2590560"/>
              <a:ext cx="0" cy="83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ounded Rectangle 13"/>
            <p:cNvSpPr/>
            <p:nvPr/>
          </p:nvSpPr>
          <p:spPr>
            <a:xfrm>
              <a:off x="2415600" y="255096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Slide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7"/>
            <p:cNvSpPr/>
            <p:nvPr/>
          </p:nvSpPr>
          <p:spPr>
            <a:xfrm flipV="1">
              <a:off x="4632840" y="2554200"/>
              <a:ext cx="0" cy="83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ounded Rectangle 15"/>
            <p:cNvSpPr/>
            <p:nvPr/>
          </p:nvSpPr>
          <p:spPr>
            <a:xfrm>
              <a:off x="4457880" y="2529000"/>
              <a:ext cx="1941840" cy="38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eat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uld you have any reservations about presenting during a live event by using a fully automated slide sh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 time when creating custom slide shows for various events could have saved you a significant amount of re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86160" y="2381400"/>
            <a:ext cx="3933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resenter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089000" y="1746360"/>
            <a:ext cx="6607080" cy="4286160"/>
            <a:chOff x="1089000" y="1746360"/>
            <a:chExt cx="6607080" cy="428616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2419200" y="1994760"/>
              <a:ext cx="503892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ine 144"/>
            <p:cNvSpPr/>
            <p:nvPr/>
          </p:nvSpPr>
          <p:spPr>
            <a:xfrm flipH="1">
              <a:off x="3200400" y="1883520"/>
              <a:ext cx="298800" cy="554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"/>
            <p:cNvGrpSpPr/>
            <p:nvPr/>
          </p:nvGrpSpPr>
          <p:grpSpPr>
            <a:xfrm>
              <a:off x="3834360" y="5409360"/>
              <a:ext cx="356400" cy="196200"/>
              <a:chOff x="3834360" y="5409360"/>
              <a:chExt cx="356400" cy="196200"/>
            </a:xfrm>
          </p:grpSpPr>
          <p:sp>
            <p:nvSpPr>
              <p:cNvPr id="58" name="Line 329"/>
              <p:cNvSpPr/>
              <p:nvPr/>
            </p:nvSpPr>
            <p:spPr>
              <a:xfrm>
                <a:off x="3834360" y="5605560"/>
                <a:ext cx="35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30"/>
              <p:cNvSpPr/>
              <p:nvPr/>
            </p:nvSpPr>
            <p:spPr>
              <a:xfrm>
                <a:off x="4187160" y="5409360"/>
                <a:ext cx="0" cy="19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Rounded Rectangle 7"/>
            <p:cNvSpPr/>
            <p:nvPr/>
          </p:nvSpPr>
          <p:spPr>
            <a:xfrm>
              <a:off x="3200400" y="1747800"/>
              <a:ext cx="162864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use/Resume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9"/>
            <p:cNvSpPr/>
            <p:nvPr/>
          </p:nvSpPr>
          <p:spPr>
            <a:xfrm>
              <a:off x="2286000" y="5381640"/>
              <a:ext cx="15984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vigation Contr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4"/>
            <p:cNvSpPr/>
            <p:nvPr/>
          </p:nvSpPr>
          <p:spPr>
            <a:xfrm>
              <a:off x="2590560" y="3841200"/>
              <a:ext cx="46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13"/>
            <p:cNvSpPr/>
            <p:nvPr/>
          </p:nvSpPr>
          <p:spPr>
            <a:xfrm>
              <a:off x="1089000" y="3687840"/>
              <a:ext cx="16239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Slide Im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20"/>
            <p:cNvCxnSpPr/>
            <p:nvPr/>
          </p:nvCxnSpPr>
          <p:spPr>
            <a:xfrm>
              <a:off x="6698880" y="1883880"/>
              <a:ext cx="1080" cy="5929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65" name="Line 144"/>
            <p:cNvSpPr/>
            <p:nvPr/>
          </p:nvSpPr>
          <p:spPr>
            <a:xfrm flipV="1">
              <a:off x="7086600" y="4741560"/>
              <a:ext cx="0" cy="912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ounded Rectangle 22"/>
            <p:cNvSpPr/>
            <p:nvPr/>
          </p:nvSpPr>
          <p:spPr>
            <a:xfrm>
              <a:off x="6558120" y="5381640"/>
              <a:ext cx="113796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4"/>
            <p:cNvSpPr/>
            <p:nvPr/>
          </p:nvSpPr>
          <p:spPr>
            <a:xfrm>
              <a:off x="2398680" y="2476800"/>
              <a:ext cx="34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24"/>
            <p:cNvSpPr/>
            <p:nvPr/>
          </p:nvSpPr>
          <p:spPr>
            <a:xfrm>
              <a:off x="1089000" y="2306520"/>
              <a:ext cx="14256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Show Tim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25"/>
            <p:cNvSpPr/>
            <p:nvPr/>
          </p:nvSpPr>
          <p:spPr>
            <a:xfrm>
              <a:off x="5981760" y="174636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Slide Preview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3"/>
            <p:cNvGrpSpPr/>
            <p:nvPr/>
          </p:nvGrpSpPr>
          <p:grpSpPr>
            <a:xfrm>
              <a:off x="2637360" y="2580480"/>
              <a:ext cx="712080" cy="298440"/>
              <a:chOff x="2637360" y="2580480"/>
              <a:chExt cx="712080" cy="298440"/>
            </a:xfrm>
          </p:grpSpPr>
          <p:sp>
            <p:nvSpPr>
              <p:cNvPr id="71" name="Line 329"/>
              <p:cNvSpPr/>
              <p:nvPr/>
            </p:nvSpPr>
            <p:spPr>
              <a:xfrm>
                <a:off x="2637360" y="2878920"/>
                <a:ext cx="712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0"/>
              <p:cNvSpPr/>
              <p:nvPr/>
            </p:nvSpPr>
            <p:spPr>
              <a:xfrm>
                <a:off x="3341880" y="2580480"/>
                <a:ext cx="0" cy="29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ounded Rectangle 28"/>
            <p:cNvSpPr/>
            <p:nvPr/>
          </p:nvSpPr>
          <p:spPr>
            <a:xfrm>
              <a:off x="1089000" y="2655720"/>
              <a:ext cx="15984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start Timer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44"/>
            <p:cNvSpPr/>
            <p:nvPr/>
          </p:nvSpPr>
          <p:spPr>
            <a:xfrm>
              <a:off x="2376360" y="4858560"/>
              <a:ext cx="344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ounded Rectangle 30"/>
            <p:cNvSpPr/>
            <p:nvPr/>
          </p:nvSpPr>
          <p:spPr>
            <a:xfrm>
              <a:off x="1089000" y="4648320"/>
              <a:ext cx="1425600" cy="34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n/Laser Poin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1"/>
            <p:cNvGrpSpPr/>
            <p:nvPr/>
          </p:nvGrpSpPr>
          <p:grpSpPr>
            <a:xfrm>
              <a:off x="2650680" y="4995000"/>
              <a:ext cx="434160" cy="196200"/>
              <a:chOff x="2650680" y="4995000"/>
              <a:chExt cx="434160" cy="196200"/>
            </a:xfrm>
          </p:grpSpPr>
          <p:sp>
            <p:nvSpPr>
              <p:cNvPr id="77" name="Line 329"/>
              <p:cNvSpPr/>
              <p:nvPr/>
            </p:nvSpPr>
            <p:spPr>
              <a:xfrm>
                <a:off x="2650680" y="5191200"/>
                <a:ext cx="4341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30"/>
              <p:cNvSpPr/>
              <p:nvPr/>
            </p:nvSpPr>
            <p:spPr>
              <a:xfrm>
                <a:off x="3080160" y="4995000"/>
                <a:ext cx="0" cy="195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ounded Rectangle 34"/>
            <p:cNvSpPr/>
            <p:nvPr/>
          </p:nvSpPr>
          <p:spPr>
            <a:xfrm>
              <a:off x="1089000" y="5053320"/>
              <a:ext cx="1641240" cy="276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e All Slides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325"/>
            <p:cNvGrpSpPr/>
            <p:nvPr/>
          </p:nvGrpSpPr>
          <p:grpSpPr>
            <a:xfrm>
              <a:off x="2705400" y="4363920"/>
              <a:ext cx="667440" cy="304560"/>
              <a:chOff x="2705400" y="4363920"/>
              <a:chExt cx="667440" cy="304560"/>
            </a:xfrm>
          </p:grpSpPr>
          <p:sp>
            <p:nvSpPr>
              <p:cNvPr id="81" name="Line 326"/>
              <p:cNvSpPr/>
              <p:nvPr/>
            </p:nvSpPr>
            <p:spPr>
              <a:xfrm>
                <a:off x="2705400" y="4370760"/>
                <a:ext cx="667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27"/>
              <p:cNvSpPr/>
              <p:nvPr/>
            </p:nvSpPr>
            <p:spPr>
              <a:xfrm flipV="1">
                <a:off x="3372840" y="436392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ounded Rectangle 38"/>
            <p:cNvSpPr/>
            <p:nvPr/>
          </p:nvSpPr>
          <p:spPr>
            <a:xfrm>
              <a:off x="1089000" y="4191120"/>
              <a:ext cx="162396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Zoom Into the Slid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39"/>
            <p:cNvGrpSpPr/>
            <p:nvPr/>
          </p:nvGrpSpPr>
          <p:grpSpPr>
            <a:xfrm>
              <a:off x="3657960" y="4440960"/>
              <a:ext cx="711720" cy="228240"/>
              <a:chOff x="3657960" y="4440960"/>
              <a:chExt cx="711720" cy="228240"/>
            </a:xfrm>
          </p:grpSpPr>
          <p:sp>
            <p:nvSpPr>
              <p:cNvPr id="85" name="Line 329"/>
              <p:cNvSpPr/>
              <p:nvPr/>
            </p:nvSpPr>
            <p:spPr>
              <a:xfrm flipH="1">
                <a:off x="3657960" y="4440960"/>
                <a:ext cx="71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30"/>
              <p:cNvSpPr/>
              <p:nvPr/>
            </p:nvSpPr>
            <p:spPr>
              <a:xfrm flipV="1">
                <a:off x="3664800" y="4440960"/>
                <a:ext cx="0" cy="22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ounded Rectangle 42"/>
            <p:cNvSpPr/>
            <p:nvPr/>
          </p:nvSpPr>
          <p:spPr>
            <a:xfrm>
              <a:off x="4305240" y="4191120"/>
              <a:ext cx="159696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lack/Unblack Slid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43"/>
            <p:cNvGrpSpPr/>
            <p:nvPr/>
          </p:nvGrpSpPr>
          <p:grpSpPr>
            <a:xfrm>
              <a:off x="4075920" y="4838400"/>
              <a:ext cx="1085400" cy="542880"/>
              <a:chOff x="4075920" y="4838400"/>
              <a:chExt cx="1085400" cy="542880"/>
            </a:xfrm>
          </p:grpSpPr>
          <p:sp>
            <p:nvSpPr>
              <p:cNvPr id="89" name="Line 329"/>
              <p:cNvSpPr/>
              <p:nvPr/>
            </p:nvSpPr>
            <p:spPr>
              <a:xfrm flipV="1">
                <a:off x="5161320" y="4838400"/>
                <a:ext cx="0" cy="542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330"/>
              <p:cNvSpPr/>
              <p:nvPr/>
            </p:nvSpPr>
            <p:spPr>
              <a:xfrm>
                <a:off x="4075920" y="4844160"/>
                <a:ext cx="10846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144"/>
            <p:cNvSpPr/>
            <p:nvPr/>
          </p:nvSpPr>
          <p:spPr>
            <a:xfrm flipV="1">
              <a:off x="6019920" y="5424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46"/>
            <p:cNvSpPr/>
            <p:nvPr/>
          </p:nvSpPr>
          <p:spPr>
            <a:xfrm>
              <a:off x="4290840" y="5381640"/>
              <a:ext cx="1596960" cy="333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re Slide Show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ptions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ounded Rectangle 50"/>
            <p:cNvSpPr/>
            <p:nvPr/>
          </p:nvSpPr>
          <p:spPr>
            <a:xfrm>
              <a:off x="4495680" y="5758200"/>
              <a:ext cx="281448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ke Text Larger/Smaller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et Up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ustom Show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666880" y="3035160"/>
            <a:ext cx="3810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Define Custom Show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"/>
          <p:cNvGrpSpPr/>
          <p:nvPr/>
        </p:nvGrpSpPr>
        <p:grpSpPr>
          <a:xfrm>
            <a:off x="1447920" y="2133720"/>
            <a:ext cx="6248160" cy="3328920"/>
            <a:chOff x="1447920" y="2133720"/>
            <a:chExt cx="6248160" cy="332892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447920" y="2133720"/>
              <a:ext cx="6248160" cy="28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167"/>
            <p:cNvSpPr/>
            <p:nvPr/>
          </p:nvSpPr>
          <p:spPr>
            <a:xfrm flipH="1">
              <a:off x="3020760" y="4320000"/>
              <a:ext cx="4680" cy="87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4"/>
            <p:cNvSpPr/>
            <p:nvPr/>
          </p:nvSpPr>
          <p:spPr>
            <a:xfrm>
              <a:off x="2287440" y="5081760"/>
              <a:ext cx="175104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iginal Presentation Sli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67"/>
            <p:cNvSpPr/>
            <p:nvPr/>
          </p:nvSpPr>
          <p:spPr>
            <a:xfrm>
              <a:off x="5229720" y="4090680"/>
              <a:ext cx="0" cy="98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ed Rectangle 6"/>
            <p:cNvSpPr/>
            <p:nvPr/>
          </p:nvSpPr>
          <p:spPr>
            <a:xfrm>
              <a:off x="4514760" y="5081760"/>
              <a:ext cx="1477800" cy="3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stom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ow Sli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801800" y="1866960"/>
            <a:ext cx="52545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Insert Hyperlink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1173240" y="2104920"/>
            <a:ext cx="6751440" cy="3554640"/>
            <a:chOff x="1173240" y="2104920"/>
            <a:chExt cx="6751440" cy="355464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tretch/>
          </p:blipFill>
          <p:spPr>
            <a:xfrm>
              <a:off x="1696320" y="2104920"/>
              <a:ext cx="622836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AutoShape 303"/>
            <p:cNvSpPr/>
            <p:nvPr/>
          </p:nvSpPr>
          <p:spPr>
            <a:xfrm flipH="1">
              <a:off x="1571760" y="2743920"/>
              <a:ext cx="264960" cy="2372040"/>
            </a:xfrm>
            <a:custGeom>
              <a:avLst/>
              <a:gdLst>
                <a:gd name="textAreaLeft" fmla="*/ 0 w 264960"/>
                <a:gd name="textAreaRight" fmla="*/ 95760 w 264960"/>
                <a:gd name="textAreaTop" fmla="*/ 54360 h 2372040"/>
                <a:gd name="textAreaBottom" fmla="*/ 2317680 h 237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95"/>
                    <a:pt x="10800" y="1590"/>
                  </a:cubicBezTo>
                  <a:lnTo>
                    <a:pt x="10800" y="9210"/>
                  </a:lnTo>
                  <a:cubicBezTo>
                    <a:pt x="10800" y="10005"/>
                    <a:pt x="16200" y="10800"/>
                    <a:pt x="21600" y="10800"/>
                  </a:cubicBezTo>
                  <a:cubicBezTo>
                    <a:pt x="16200" y="10800"/>
                    <a:pt x="10800" y="11595"/>
                    <a:pt x="10800" y="12390"/>
                  </a:cubicBezTo>
                  <a:lnTo>
                    <a:pt x="10800" y="20010"/>
                  </a:lnTo>
                  <a:cubicBezTo>
                    <a:pt x="10800" y="2080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325"/>
            <p:cNvGrpSpPr/>
            <p:nvPr/>
          </p:nvGrpSpPr>
          <p:grpSpPr>
            <a:xfrm>
              <a:off x="1351800" y="3929400"/>
              <a:ext cx="182520" cy="1525320"/>
              <a:chOff x="1351800" y="3929400"/>
              <a:chExt cx="182520" cy="1525320"/>
            </a:xfrm>
          </p:grpSpPr>
          <p:sp>
            <p:nvSpPr>
              <p:cNvPr id="112" name="Line 326"/>
              <p:cNvSpPr/>
              <p:nvPr/>
            </p:nvSpPr>
            <p:spPr>
              <a:xfrm flipV="1">
                <a:off x="1356120" y="3929400"/>
                <a:ext cx="0" cy="152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27"/>
              <p:cNvSpPr/>
              <p:nvPr/>
            </p:nvSpPr>
            <p:spPr>
              <a:xfrm flipH="1">
                <a:off x="1351800" y="3929760"/>
                <a:ext cx="182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ounded Rectangle 5"/>
            <p:cNvSpPr/>
            <p:nvPr/>
          </p:nvSpPr>
          <p:spPr>
            <a:xfrm>
              <a:off x="1173240" y="5401080"/>
              <a:ext cx="1436400" cy="258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k to Op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ction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"/>
          <p:cNvGrpSpPr/>
          <p:nvPr/>
        </p:nvGrpSpPr>
        <p:grpSpPr>
          <a:xfrm>
            <a:off x="2286000" y="2190600"/>
            <a:ext cx="4524480" cy="3448080"/>
            <a:chOff x="2286000" y="2190600"/>
            <a:chExt cx="4524480" cy="3448080"/>
          </a:xfrm>
        </p:grpSpPr>
        <p:pic>
          <p:nvPicPr>
            <p:cNvPr id="117" name="Picture 2" descr=""/>
            <p:cNvPicPr/>
            <p:nvPr/>
          </p:nvPicPr>
          <p:blipFill>
            <a:blip r:embed="rId1"/>
            <a:stretch/>
          </p:blipFill>
          <p:spPr>
            <a:xfrm>
              <a:off x="2286000" y="2190600"/>
              <a:ext cx="4194360" cy="31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03"/>
            <p:cNvSpPr/>
            <p:nvPr/>
          </p:nvSpPr>
          <p:spPr>
            <a:xfrm flipH="1" rot="16200000">
              <a:off x="3124800" y="4620240"/>
              <a:ext cx="156960" cy="1034280"/>
            </a:xfrm>
            <a:custGeom>
              <a:avLst/>
              <a:gdLst>
                <a:gd name="textAreaLeft" fmla="*/ 360 w 156960"/>
                <a:gd name="textAreaRight" fmla="*/ 56880 w 156960"/>
                <a:gd name="textAreaTop" fmla="*/ 32040 h 1034280"/>
                <a:gd name="textAreaBottom" fmla="*/ 1002240 h 103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76"/>
                    <a:pt x="10800" y="2151"/>
                  </a:cubicBezTo>
                  <a:lnTo>
                    <a:pt x="10800" y="8649"/>
                  </a:lnTo>
                  <a:cubicBezTo>
                    <a:pt x="10800" y="9725"/>
                    <a:pt x="16200" y="10800"/>
                    <a:pt x="21600" y="10800"/>
                  </a:cubicBezTo>
                  <a:cubicBezTo>
                    <a:pt x="16200" y="10800"/>
                    <a:pt x="10800" y="11876"/>
                    <a:pt x="10800" y="12951"/>
                  </a:cubicBezTo>
                  <a:lnTo>
                    <a:pt x="10800" y="19449"/>
                  </a:lnTo>
                  <a:cubicBezTo>
                    <a:pt x="10800" y="2052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89"/>
            <p:cNvGrpSpPr/>
            <p:nvPr/>
          </p:nvGrpSpPr>
          <p:grpSpPr>
            <a:xfrm>
              <a:off x="3204360" y="5290920"/>
              <a:ext cx="1492920" cy="229320"/>
              <a:chOff x="3204360" y="5290920"/>
              <a:chExt cx="1492920" cy="229320"/>
            </a:xfrm>
          </p:grpSpPr>
          <p:sp>
            <p:nvSpPr>
              <p:cNvPr id="120" name="Line 290"/>
              <p:cNvSpPr/>
              <p:nvPr/>
            </p:nvSpPr>
            <p:spPr>
              <a:xfrm flipH="1">
                <a:off x="3204360" y="5514840"/>
                <a:ext cx="149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91"/>
              <p:cNvSpPr/>
              <p:nvPr/>
            </p:nvSpPr>
            <p:spPr>
              <a:xfrm>
                <a:off x="3204720" y="5290920"/>
                <a:ext cx="0" cy="22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ounded Rectangle 7"/>
            <p:cNvSpPr/>
            <p:nvPr/>
          </p:nvSpPr>
          <p:spPr>
            <a:xfrm>
              <a:off x="4584240" y="5221080"/>
              <a:ext cx="2226240" cy="417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on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cp:lastPrinted>2012-11-26T15:00:14Z</cp:lastPrinted>
  <dcterms:modified xsi:type="dcterms:W3CDTF">2013-07-23T19:38:51Z</dcterms:modified>
  <cp:revision>120</cp:revision>
  <dc:subject>Courseware Resource Supplement</dc:subject>
  <dc:title>OV-ILT Template –  Content Developer Section</dc:title>
</cp:coreProperties>
</file>