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24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8772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035600" y="0"/>
            <a:ext cx="308736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09240" y="704520"/>
            <a:ext cx="470556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937360"/>
            <a:ext cx="308772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035600" y="8937360"/>
            <a:ext cx="308736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98E830A-DA52-4872-B92F-5B55F879D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E5D1D87-2043-4972-AB2A-71700671D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48987D2-8C6C-47AB-A753-D50784C02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8B70FA1-5ABC-4FE3-BD2E-BF87983E7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165FFD5-6B91-422D-98F9-099EFF768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45C5455-9EE2-45F2-BB35-FB9570BD4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F46C024-7EF3-401D-9D33-549DC1F27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597CCE6-E3AA-49F5-A63D-3DAF8490E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D75A503-EC69-4FDD-827F-0D0384E45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7B85A6F-E9E8-44A7-B64A-40E2786D8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2A45CA0-0930-45C3-B465-3CEF7E936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3C4692F-4DF2-45D9-8B61-4D1825948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E0B87BD-7869-4E88-AC82-ACD19E4C1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A94AF51-3F3F-4687-9E70-5857AEE64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8178840" y="6551640"/>
            <a:ext cx="965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r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 7 - </a:t>
            </a:r>
            <a:fld id="{44E249E8-C899-40F8-91A9-3B341E0E5195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2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3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142640"/>
            <a:ext cx="8202600" cy="34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e a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cast a Slid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a Video or a C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ecuring and Distributing a Presentation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1523880" y="2743200"/>
          <a:ext cx="5867640" cy="1981080"/>
        </p:xfrm>
        <a:graphic>
          <a:graphicData uri="http://schemas.openxmlformats.org/drawingml/2006/table">
            <a:tbl>
              <a:tblPr/>
              <a:tblGrid>
                <a:gridCol w="2210040"/>
                <a:gridCol w="3657600"/>
              </a:tblGrid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ational E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’s Differ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basic transitions display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o does not broadcast to the audienc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e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eo is not displayed to the audienc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otation too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otation tools are not displayed to the audienc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80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Broadcast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Create a Video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1333440" y="1971720"/>
            <a:ext cx="6410520" cy="3895560"/>
          </a:xfrm>
          <a:prstGeom prst="rect">
            <a:avLst/>
          </a:prstGeom>
          <a:ln w="15840">
            <a:solidFill>
              <a:srgbClr val="bfbfbf">
                <a:alpha val="90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Package for CD Dialog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2209680" y="2514600"/>
            <a:ext cx="476280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flective Ques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likely are you to use PowerPoint to present confidential information now that you are aware of the security features availabl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think the ability to broadcast presentations over the web will lead to a decrease in the number of live presentations? Do you prefer a live event over attending remotely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Password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4829040" y="3881520"/>
            <a:ext cx="3333960" cy="1247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1009800" y="2438280"/>
            <a:ext cx="3333600" cy="1247760"/>
          </a:xfrm>
          <a:prstGeom prst="rect">
            <a:avLst/>
          </a:prstGeom>
          <a:ln w="0">
            <a:noFill/>
          </a:ln>
        </p:spPr>
      </p:pic>
      <p:sp>
        <p:nvSpPr>
          <p:cNvPr id="54" name="Rounded Rectangle 4"/>
          <p:cNvSpPr/>
          <p:nvPr/>
        </p:nvSpPr>
        <p:spPr>
          <a:xfrm>
            <a:off x="5710320" y="5303880"/>
            <a:ext cx="1681200" cy="382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ssword Requir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 Modify Fi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5"/>
          <p:cNvSpPr/>
          <p:nvPr/>
        </p:nvSpPr>
        <p:spPr>
          <a:xfrm>
            <a:off x="1819440" y="3881520"/>
            <a:ext cx="1680840" cy="40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ssword Requir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 Open Fi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Mark as Final Fe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97000" y="1384200"/>
            <a:ext cx="861840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Digital Sign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81040" y="1427040"/>
            <a:ext cx="7315200" cy="4129200"/>
          </a:xfrm>
          <a:prstGeom prst="rect">
            <a:avLst/>
          </a:prstGeom>
          <a:ln w="0">
            <a:noFill/>
          </a:ln>
        </p:spPr>
      </p:pic>
      <p:sp>
        <p:nvSpPr>
          <p:cNvPr id="60" name="Rounded Rectangle 4"/>
          <p:cNvSpPr/>
          <p:nvPr/>
        </p:nvSpPr>
        <p:spPr>
          <a:xfrm>
            <a:off x="6783480" y="5835600"/>
            <a:ext cx="190332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ignatures Pa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67"/>
          <p:cNvSpPr/>
          <p:nvPr/>
        </p:nvSpPr>
        <p:spPr>
          <a:xfrm>
            <a:off x="2197080" y="5559480"/>
            <a:ext cx="0" cy="5443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6"/>
          <p:cNvSpPr/>
          <p:nvPr/>
        </p:nvSpPr>
        <p:spPr>
          <a:xfrm>
            <a:off x="1809720" y="5854680"/>
            <a:ext cx="2168640" cy="353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gital Signature Ic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02"/>
          <p:cNvSpPr/>
          <p:nvPr/>
        </p:nvSpPr>
        <p:spPr>
          <a:xfrm>
            <a:off x="7900920" y="2109960"/>
            <a:ext cx="295200" cy="3236760"/>
          </a:xfrm>
          <a:custGeom>
            <a:avLst/>
            <a:gdLst>
              <a:gd name="textAreaLeft" fmla="*/ 0 w 295200"/>
              <a:gd name="textAreaRight" fmla="*/ 106560 w 295200"/>
              <a:gd name="textAreaTop" fmla="*/ 60480 h 3236760"/>
              <a:gd name="textAreaBottom" fmla="*/ 3176280 h 3236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48"/>
                  <a:pt x="10800" y="1296"/>
                </a:cubicBezTo>
                <a:lnTo>
                  <a:pt x="10800" y="9504"/>
                </a:lnTo>
                <a:cubicBezTo>
                  <a:pt x="10800" y="10152"/>
                  <a:pt x="16200" y="10800"/>
                  <a:pt x="21600" y="10800"/>
                </a:cubicBezTo>
                <a:cubicBezTo>
                  <a:pt x="16200" y="10800"/>
                  <a:pt x="10800" y="11448"/>
                  <a:pt x="10800" y="12096"/>
                </a:cubicBezTo>
                <a:lnTo>
                  <a:pt x="10800" y="20304"/>
                </a:lnTo>
                <a:cubicBezTo>
                  <a:pt x="10800" y="20952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328"/>
          <p:cNvGrpSpPr/>
          <p:nvPr/>
        </p:nvGrpSpPr>
        <p:grpSpPr>
          <a:xfrm>
            <a:off x="8226360" y="3673080"/>
            <a:ext cx="201600" cy="2197080"/>
            <a:chOff x="8226360" y="3673080"/>
            <a:chExt cx="201600" cy="2197080"/>
          </a:xfrm>
        </p:grpSpPr>
        <p:sp>
          <p:nvSpPr>
            <p:cNvPr id="65" name="Line 329"/>
            <p:cNvSpPr/>
            <p:nvPr/>
          </p:nvSpPr>
          <p:spPr>
            <a:xfrm flipV="1">
              <a:off x="8421120" y="3673080"/>
              <a:ext cx="0" cy="219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330"/>
            <p:cNvSpPr/>
            <p:nvPr/>
          </p:nvSpPr>
          <p:spPr>
            <a:xfrm>
              <a:off x="8226360" y="3734640"/>
              <a:ext cx="20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Digital 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523880" y="3422520"/>
            <a:ext cx="60292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Trust Center Dialog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654228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Document Inspector Dialog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905120" y="1504800"/>
            <a:ext cx="523872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Present Online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1"/>
          <p:cNvGrpSpPr/>
          <p:nvPr/>
        </p:nvGrpSpPr>
        <p:grpSpPr>
          <a:xfrm>
            <a:off x="1155600" y="1187280"/>
            <a:ext cx="6845400" cy="5213520"/>
            <a:chOff x="1155600" y="1187280"/>
            <a:chExt cx="6845400" cy="5213520"/>
          </a:xfrm>
        </p:grpSpPr>
        <p:pic>
          <p:nvPicPr>
            <p:cNvPr id="75" name="Picture 2" descr=""/>
            <p:cNvPicPr/>
            <p:nvPr/>
          </p:nvPicPr>
          <p:blipFill>
            <a:blip r:embed="rId1"/>
            <a:stretch/>
          </p:blipFill>
          <p:spPr>
            <a:xfrm>
              <a:off x="1155600" y="1187280"/>
              <a:ext cx="6845400" cy="46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Rounded Rectangle 3"/>
            <p:cNvSpPr/>
            <p:nvPr/>
          </p:nvSpPr>
          <p:spPr>
            <a:xfrm>
              <a:off x="3698640" y="5988240"/>
              <a:ext cx="1758960" cy="412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View of an Onlin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resent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Present Online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2438280" y="2182680"/>
            <a:ext cx="428652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12:27:45Z</dcterms:created>
  <dc:creator>Isalgado</dc:creator>
  <dc:description>Version 1.6
03.31.03</dc:description>
  <dc:language>en-US</dc:language>
  <cp:lastModifiedBy>Tricia Murphy</cp:lastModifiedBy>
  <dcterms:modified xsi:type="dcterms:W3CDTF">2013-07-23T19:48:45Z</dcterms:modified>
  <cp:revision>110</cp:revision>
  <dc:subject>Courseware Resource Supplement</dc:subject>
  <dc:title>OV-ILT Template –  Content Developer Section</dc:title>
</cp:coreProperties>
</file>