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95FCF46-4328-43EA-A970-491EEF6FC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5A2BBD-EEBA-4250-9B29-F5A7E73E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ying the PowerPoint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ing Design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ng SmartArt to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ing with Media and Anim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ng on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ing a Slid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ng and Distributing a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2:27:45Z</dcterms:created>
  <dc:creator>Isalgado</dc:creator>
  <dc:description>Version 1.6
03.31.03</dc:description>
  <dc:language>en-US</dc:language>
  <cp:lastModifiedBy>Tim Barnosky</cp:lastModifiedBy>
  <dcterms:modified xsi:type="dcterms:W3CDTF">2012-11-20T13:47:23Z</dcterms:modified>
  <cp:revision>80</cp:revision>
  <dc:subject>Courseware Resource Supplement</dc:subject>
  <dc:title>OV-ILT Template –  Content Developer Section</dc:title>
</cp:coreProperties>
</file>